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36F-87B3-4D11-BD28-E959C491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733-8097-4E9B-AD45-5CCC32F3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26CAF-7A61-4CA8-B851-2E34F3C8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E8E2B-EC56-4CB3-B7DC-6763B24B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62B05-3D36-4AF9-9649-B29E76A1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87795-D9D4-428C-AD5E-0FBC8D43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3A740-6029-42FF-8865-30E79EB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45E8A-7578-464C-8ED6-911B31F9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2E333-5B65-4303-8986-1B5EF106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1B23F-E588-4DE7-A52C-67FCF7A2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EAAAB-E0B2-48BB-89FA-40F69177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BCB67-E6DE-41DA-8E62-13909D1B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91B-CD3D-4A26-B7A0-297349DD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35DA4-62E4-4E72-823F-CDD324EE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FCCC4-D246-4ECD-84D7-B19DD4B4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5DD83-B82D-4786-8D1F-484BF027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AA4D9-06C6-42AD-8466-8E2DC3A5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67213-E357-482F-8859-E430BFE9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2DEC2-87AB-48F0-BF8A-9E0971A4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0249E-D922-46F9-BD97-DD236131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6CA00-3AA6-4C39-A4DB-5C1F0307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DE388-B002-44A2-8308-845653BE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4B736-2016-41E2-A54A-54396E16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689-0F9A-4F37-AD14-BC9DA240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3A246-F517-4182-94EA-13A871A4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68DEA-B2FA-440C-B8F3-910809D3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A5480-CF38-476F-BE4E-3943B70F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2D97C-F45F-4667-A20A-CF7A5636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A8CE9-F5C4-43E1-89CF-28784869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8BD67-4785-4A23-856F-B0794346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8D5A1-5139-4281-B226-D22198D7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D3FB9-50A0-4272-9F68-701DC829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2FA7B-DFAD-464E-9FAB-23ACA346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0E72B-70DD-4030-A857-7D9DBC5F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73DF-29B5-43EE-9206-9572B20E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B4EE2-DCFE-4A66-810C-82A650E7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8EDD5-436E-4E46-8765-843C0C96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5CC8C-C40B-4CF9-8C6F-8B8E76DB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2D5AF-7DAC-41F8-AA6E-8B8FC0DE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8EF82-7560-4AB6-836B-C7E55757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FB643-46A2-47A2-85FD-918B9706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2D7E7-889B-4AD5-9A6F-9F5FE5F4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F6DA9-42D7-4FCF-A35B-94E7B6F3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DC125-79CF-4342-9E44-72BDE804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29BAA-417A-47B1-85D2-6703BEBE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EE71-A5FE-4C49-98B5-FCAD55E4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87E1D-97FB-4613-98AF-B9B2B923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C491F-4849-43CD-B153-009598BE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EF38E-CC8D-4507-AE22-7CC847A5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42820-738D-4E4A-86D4-0E138B10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3BA37-40B5-4428-9BEE-8A07E1EE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F667D-EDFB-48C5-A0DC-6E8EADE6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C2D3B-B597-4C54-B24A-0B378185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9B3E2-8827-4324-A646-FBB104E8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7BB8F-DEFC-4D8B-88D6-1C58223F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61D4C-2D25-4ED0-947D-08DFD901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9C75-9A18-4F16-8C40-F9C754E4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5BF91-922F-48BE-87DC-0F64B459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2363A-5172-4325-A65D-1F355AA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448F7-007D-4B19-BADE-2E4EBDD3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11338-2272-4CB0-9F79-282B2FB3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F5285-C23A-4ED8-9081-A8EAE66D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78877-8488-4C22-B71A-A5CBF101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E57BA-A3B0-4A51-B9AD-1D14C0E6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9B646-B45D-429A-BEDD-6F446B05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1E9B4-4119-4C2E-8573-CCC24DA6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C36C4-F593-41C5-A782-C6483077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B536-51BA-43BF-9326-8CB59B00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AA900-9ED7-4F83-9DE4-B38A9D03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B0489-86A1-4023-A980-8832DFA2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66FAF-5E34-4335-B308-28A6D081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C000B-EC86-4A0D-B050-57A319E1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6AE39-D5EC-490A-8978-1CBB38DC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DA6BF-3690-41A5-9AE7-2DDDA03B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20180-6285-4141-8F82-D7F351C8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88C68-5F80-4A94-8928-0BEC0988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A802B-1048-4FF5-A0B9-76C6B495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C03F7-9003-40DC-A8D9-3A10D9B7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2075-AEC1-4C5F-A8BC-A49DB276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A6E74-F2DB-4193-BA4D-13EE5B44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E0EA4-5ED9-4B75-852A-06DD1F48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D1900-4EF6-4A19-8326-E61C6109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CE721-8D69-4427-A862-225EECFC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931DB-8D91-45E8-A5ED-7EF6553A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96210-4BAE-491B-8F63-03A3AFE1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8DA5D-2A1A-423C-B203-0512152E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6CE9ED-08FB-45FB-8155-588DCCCB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E1958-2162-4852-8D7E-4F7C5CE7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70281-E34B-40DE-BE6E-0CEED10B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A00B-A1BD-4AE3-9793-E94F84B2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76905-3899-44C1-B42C-E3DFA0ED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60B9F-26EB-43E3-AE13-62DFCB1F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62EBF-10CD-442F-B22A-B6E25B77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7A4DE-3A0B-4385-8EFF-C46B0A84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DFF375-B41B-49EC-AA1B-0DF12504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1FCEE-5634-4BA0-8BDC-7EDA5953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A5E50-EEB2-42F1-BD02-E5529A2B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A94989-16A2-4337-9003-210107F2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CDE428-2404-42C2-AE09-1AA39D82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A1608-CDFA-4EF5-8386-219EBCAA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882E-C149-4957-A11D-5681A96F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3FCAA2-6925-4B15-81B7-25EDBB8E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49AA77-A5CC-4E2D-AFF5-CAB1C63C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6FAD71-8A1C-4FDE-A589-1A45AD13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B424F-79A9-40E3-BC93-556A5C65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08EF5-08A1-4E1D-91E9-E6855C2C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827D7-6F61-4437-8B75-E257686D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2650B-025F-4355-BCCD-35040DCA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7CA04-70A3-4813-BE1F-875682DA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260FB-2FBB-4E6E-A203-7B581FB7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F3462-77D4-4E1A-B02E-A5191D6D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412-495F-4571-B518-1211408C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F5BF-4F02-432A-884B-BDC95617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A6CAE-5B01-4E54-97F8-FDC8E21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82537-684B-422C-9D2B-D27B65F2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49F62-EF37-4AD5-8BFB-FCCE9ED0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E8AF3-7FCA-4DF3-98AB-E0659683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C8E4C-AA50-4541-A517-9CFC23CC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FCC5E-5C4A-4DC0-8198-772EDB79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8D653-08FA-471D-AA3A-A223FAEB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8D7F0-1822-4A8C-92A3-FF6ED4F6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EB62E-845B-46B9-972D-37856382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3815CF-A7ED-48E8-A9CB-B5E04E08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BB6A-3C67-4E3C-8027-3290F379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1AC7F-5347-4291-A4BF-25633C36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3CF3E5-76FE-4771-956B-98B1060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67B987-C4CF-450A-9C74-4B6AC03E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2D196-0333-4B09-85B3-03742A4F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1719E7-1402-4340-9717-43C9CF2A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DA61FE-46DE-4D02-9CB6-85B8BF3F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DF0BE3-DBAC-4524-98CA-60463F8F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9FFF0-A377-42D1-BE79-32EA7450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3AC717-8012-473F-BADD-141C3519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99C2AA-2610-473C-BC1D-DDF4497B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F9F7-850C-4F73-84D1-AFB5AF65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205CE-7773-4A1E-8598-34CEA492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80BA0-A56A-4B97-B1A0-6FA7DF82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5EAD80-A6A2-420B-9CB0-C097E502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CA71CF-7B0E-4E6A-9890-1176B7B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31F78D-807A-4E2A-91A4-E6785120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F23812-F3BA-4B1D-9197-A9F3CDD4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5789D9-525D-4346-AA5D-642D211B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3B3159-622C-4EBF-850C-14C0C6DE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02707B-55BA-40E2-AD03-FEC7461E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FE53D8-F9EC-44BD-8C62-092D43FD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6A8B-8775-4E14-992C-67FD05FF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6BB31-5B3F-4DCC-AEBB-38CA8B4F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A573E7-8C98-4A52-8E3F-877344BA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6432A-29A3-4EDA-9AB1-74BC7252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656E8-E162-4FA6-9A2A-A3B1E43E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E04A3D-7704-4BC1-8A29-33DAF03F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8D601-21F8-4760-A419-26E92A9B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0D1ED-D0A5-4C9B-BB2B-501BB40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5481E-4E5F-4B9E-AD94-B8549E8F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E5A87-05AD-4C1D-9C1D-A2B6AE7F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1D436B-F6BE-432B-9764-BCAD05C8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E6DA-74FA-43DE-AFDF-7CBE7FAA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C1EB0-024B-41BE-BE57-CF3353FE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408002-A8B1-42D6-B72F-7E83E4CB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C0934D-B29C-45DA-936E-651C3256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4C79A5-F63B-4A96-AE02-B88B6091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5E252D-B475-4CD3-9C96-ED423758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F8F3A3-ADA1-4DBF-BC6B-38F08725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31931-A4B2-4052-A856-998EA5AD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7EF29-33C0-4EEA-8D4B-D61FB08B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4B679F-861B-4344-BE9D-C134C24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938B4-F08A-4E68-8A00-CE8E7679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99AB-7256-4F9E-A622-46CDACF8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7B1DC-044C-4300-BCD9-A5BC404A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A7A3B-6A05-482A-B1D3-31A0D503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2DE4C-ABB3-4D15-823A-C84EF407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3E7935-434B-4241-AE56-CDAEE9ED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EAF827-2407-4C2C-B8DD-AD907B28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95A8E9-5F16-4DB8-9B90-7206C165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26441E-D80A-4206-A610-C8FEF41D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A8DD10-80DE-46FF-84E8-8D8C1CEE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10C707-D542-4521-B31E-81D2E9AF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B892AA-CCF3-4D3E-BF67-5126B0E3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C94D-E230-4A7C-83E7-79B94B6C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990F30-1E16-4386-A5EC-CBB13B97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EF56A6-E70D-4A61-A12D-3CD614E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F47833-2AEF-4407-A49E-7EA338C3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5916B0-4E39-46A3-9E9F-F5993E8C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A8215D-6CFB-47C5-9D04-6781E6F1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2A711B-CD4A-4FE4-9E6C-C679DCE5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574574-C83C-4D5F-843E-172B2A0D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89F67-284A-4C42-A462-8BAC7611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7F6528-538D-41CF-BAA6-4DA2BAB3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DB400B-0442-4DEB-AE95-9ECF26D5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A619-B38D-409D-BBD2-3DE90BFB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F43498-D21A-4455-BEA1-56C9A4AD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2D93A5-06B0-4E47-AAE2-EEABFA44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0BAA2-31DD-42DB-B255-071EA882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269B02-2FD8-41CD-82AD-54E884D5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923556-C672-486F-9EF6-3AF95C87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58F0AD-AF57-4987-AD1E-1A0FD01F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3383FC-E4D0-4BD4-869D-CCC0386E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1A2F14-0340-4386-92A0-7D19E969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277D5A-529A-4926-A00B-D97D5039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F7CC2D-92EB-420D-80E6-18C2C988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EE16-38E8-48D7-A799-19BE3A6E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E175A4-BD49-4D1D-855E-47C3115B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BA9383-1BD5-4EAC-AF92-FA2CE0FF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0AC905-DE44-4AEA-8F17-2F041FC3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DB1DE0-D282-4201-AD61-2444E9E3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1F6B76-880B-4AFD-B7D3-0B07A731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E8C6C2-A134-4AC4-8F65-1196D9D7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AE290E-3E51-4732-9B8B-CA0D4A19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7A6DDF-07EF-428D-9BC7-6E2D17B1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3A4D5F-6098-46FC-979F-DEA2D315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E62EC9-868A-4F2C-BA63-5DAD0B8D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76D7-654E-4550-A3CD-8D3D7D7F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10A40C-1F8B-44E6-9AFD-CE6E54B7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13A815-B0A4-4E1E-8C8E-C695CA20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376A71-9DB8-4AAD-82A7-F4861DB6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11BF21-FDB9-448B-AB49-D1A61DE9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CEA572-8EEA-4BA7-9B92-E33DEB76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0218F0-85D2-4603-8D8C-69EBD9A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C0D826-6051-4549-BE09-F960145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355AD7-D18E-4B24-9A33-3397DFD6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CC8D47-32E3-4966-B2FA-436545B5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AFC09D-E54B-4065-8ED5-02871FCC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83B-ECC6-4CA2-8D1A-9F3C5777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E77DB-7471-493F-ADDB-91B476C1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D38F6B-029C-4760-8826-DA13E9F2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77D771-DD25-4D5F-A176-3F1CC558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0ED4D4-4C5F-42C8-8C05-99E59D27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10D935-6EA4-448B-BBF4-F25EECBE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EF6923-D702-4C32-827B-C589F88A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5CF86C-848B-4C29-BC04-CDAB3FA6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7E397A-E1D9-4D04-A35B-22A382F2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C41A65-311E-4374-86E1-7E3D40A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0049F4-27D1-4C38-95F4-F5B86094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B3C438-957D-448B-B031-9D78FF30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C889-100D-41CC-8FDF-38CA7BB0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FFB1A9-9B13-4A71-BF7A-70EFBC08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994BFA-2BAA-480D-9E46-E9327859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0F4FAC-3F7B-4B22-BB73-3D631FA3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666DEA-72DB-4B46-8123-FE8B02F1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6378D6-ABEA-4446-9279-E2DD2BDF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D80B83-9453-4461-97FE-82E9E049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144416-A261-47BE-B279-456B88E8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D914E2-EF7E-4D42-A043-A07F20BE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B03A6E-8B2A-40AA-B0CB-E0F6BCE5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9E2BAD-9CA4-49CC-AD2E-1E960ACE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0F39-CB51-4640-92BA-4605645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5FEF02-50CF-4BC3-B58C-6DEFF005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711142-60C3-450D-8615-2C04FAD6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BD4693-03B2-433D-AA5D-F80E1721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A1B296-C8A0-4FE7-9F85-94E788DE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EBE45F-DE8A-4E2C-BA8D-21FB03AE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EF2B90-913F-47A8-BA12-E5E0EC35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0605C0-2748-4E38-8E6A-3D8D1E2B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6E05B7-1BED-4917-8343-896A4885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4BD831-35F7-4BC3-885F-86265E09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437891-3610-49D9-85FA-3DA977E1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76E5-A0CC-4608-B0E7-A231340A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48F415-10AF-46F6-98C2-D4F5232D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DF4C4F-6366-43E7-B488-A5E39E72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9B2E12-9DAB-43A0-B927-A6FA4B1D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954870-38A5-415D-B0DF-185A8986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6C18C4-7F12-47E6-AF7A-2945F6C0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EE6B9F-7B80-4C15-B762-44284605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A75CE4-6A0E-40A4-B569-B077D9E6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E2B102-D035-4B1C-BA9F-43854382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5147EA-21BD-4F70-9DF4-B7A2B2D3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4AD26F-D7E2-48DF-92CB-947E9390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91F8-140E-4825-8ADB-6ECDDC5A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3D6E34-042E-4309-8EFA-A3C76B8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0AEA99-E215-4CE5-8097-7F3C4B9A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335E42-4BBB-4564-AC34-443FDAD8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126523-CD84-4A0D-BE86-784501AA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188F65-ECFB-4B69-81DE-5662A660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C796C5-7CF5-49B4-86BA-4E39582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C7F174-006A-47B7-AE04-B665E754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83AEFB-11FF-41BE-9F37-B5679671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C7F264-4482-4ABE-B376-926F4D00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8FCB88-B1A4-4C3E-AD18-57AC9F26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77730-F9A5-4543-931F-9C82DB1E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A7C9EF-25ED-4077-B6B0-3A8972B8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361102-089C-419D-B606-ABA93DA6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FEC162-DF23-4665-A410-D1D16244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0B2EB9-6EA1-4FB2-B77E-7A3D5D3F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5083FF-0F67-4704-AD07-9D1B40EB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59A8CB-12DC-402D-AE7E-C898EE34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6265ED-FF4C-4AEA-9B4E-7B91C8FF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6825EC-D766-4D26-9535-1CF6AC6C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639424-00D1-4381-BDC9-D9F43695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F1F876-F811-490F-A2A3-BD60B781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427F-82C0-4E12-ACA3-22F283E1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BD3BFF-0519-4EE5-AFA9-8B15075E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F68265-F3BC-4DA7-AECF-3F51AEE4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F71D3B-D041-4007-AB7D-6B57417A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F7A8D7-F496-431C-B4F5-58AB9D72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CC3055-057A-41C6-B3A9-85478C03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835525-8ED8-47E9-9164-0CB06BE3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15A29E-DCFA-426D-BD40-F65D5CA5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B96AB8-CF52-463D-B746-F061D76E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C05516-8193-445A-A7F9-E8E8F892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714AAD-68B2-441B-9A3E-FF32AD49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79BD-B1C0-4151-BD54-A917D8B3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EA1C14-5BA7-47E6-A8EE-79CEB151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8FE355-66DD-4ABE-844B-83C41A2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C893B9-0ECD-4146-901C-B11F3883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F4F95-0D3B-4A93-B8B3-C4684A34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848AB-1B73-4F29-9144-2E772DB2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E06-3F09-4A25-885D-C86026A4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CDB5-4F6F-426D-960D-28BCDA89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A433-05A3-4193-A98C-E98FF80F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26685-F13E-446B-B680-F3F6C85F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E7A3D-28D4-4A51-9059-AE12E81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0FFE-0051-44C9-BCA2-DBA094BE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DDC5C-AA21-4D2D-9B1C-6D4B04F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4DEF-0F7D-4B80-8527-4D9F2D88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D003D-FDCA-41B0-B6F3-B799CCDE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A79A0-A0E6-4C9C-AA3B-BCC0EAEF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C06E-92D8-4041-B175-FC576131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90A-1774-499D-934E-5637C2E4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791D2-AE4F-4377-B3BC-074D658E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8F574-94C5-42BF-9A05-728B44AD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957E3-9DBA-4229-B3C1-2E42DB7D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3340D-AFB7-45E7-A0C4-64DE612E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CA5E6-7BB7-42C0-ABFF-E2FC59DB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D83D0-DAB7-44D2-9977-EBF92431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D3DAE-9EEC-4C08-A1B7-DF44EC98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6A166-5BB0-4C40-83B7-A72FB3F6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B6DD2-9469-41BD-9E8B-64BD214E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49A9-1C81-40AD-8686-966531AB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DFD-2B0D-4A6E-980C-0A1D8BEF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C0B5-7031-4946-9278-7D7EAACB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9E494-0C86-4A10-969F-1683E00F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1B63E-9470-4958-8C00-CDC5DDB4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9C226-43AA-49F7-84B6-603CF482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7361E-F038-45E3-A95C-BC92038A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011C-5192-4F3B-921E-DE15DDBA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74220-3E8B-4F4F-A7CF-D886F2E7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95A19-770F-4B64-9450-B79DE1BE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CF2B3-66FD-4A81-8CF2-1467197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40E9D-8D22-4783-BFB4-30378D0A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114-5E54-4911-B359-9E4C0B22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3459D-BBB2-454A-8F29-0755A3DB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D89D4-1AEA-4BE7-BD49-3E7788DD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5E716-B10D-4868-9295-C13E029A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90823-F069-4BD8-BA90-29613C75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68272-BEB5-4FD4-BA31-9B717ABE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3AA42-9D64-4273-861A-D17CD73B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8D56C-F374-4B3B-A786-5DDA33D2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F5BAE-5872-441C-B210-8DCAAA69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9A574-CB5B-4192-8158-C1196A88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D6856-A2E2-46E0-B2C9-F1043403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C1E-2D0B-4395-85ED-B6AE4140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AC347-6D9E-40B4-9FEC-A2FF9FD2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CB54E-E9C3-49FC-B26D-AF86A8B7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B7FF5-9F22-4224-B234-35413190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A07B1-D17B-4A9E-AE5D-FB6AD7FA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63149-D2F6-496C-AAB7-2B06419E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00FC0-822A-45D3-85CB-95D7FFE4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DC8D5-C800-451A-A8D6-1E8122D7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2DA4C-B493-4042-B408-797B2807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3EB5C-D431-4E3C-98F9-E160BEA2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61B30-F83B-4ACD-802E-3C540F0C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0CB-948C-4BC6-AE4C-3F962F64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096AE-BB8E-418B-862D-04673FDF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749E3-DDAD-40E0-B616-F6D773A7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AC47E-F78A-4B50-BC63-1F9CE246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9B5C2-39BA-4E17-A8F3-50E198D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42002-97C4-449E-90B0-F0B72F8A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C108D-27BF-4E2B-8B78-7E33915B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A8910-3F0C-44D4-9561-FE4ADA07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BEBF8-DFBD-4089-A0A4-78D7BF9E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35FC9-62C6-4036-8800-410A38EE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C0C57-A431-49B3-821D-06FD6170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3587-4829-495D-B234-A6BE27B82D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89FA-58DC-4553-A768-FC693628DE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848F-B133-4E7A-8D5B-A1D9FE1E46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D4E8-DC64-42B8-BBAB-273332F77D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8184-0A8E-40DF-9068-8F90AC65D1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5582-F4B1-4D8C-B7FA-FD53D24D0F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9A57-A50C-4BEA-86BD-ABCB12337A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C5C1-A38F-45DC-B3DB-B0860A8966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6CE8-2603-4E30-95D4-B90572E592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8F95-3C07-4CD5-89ED-53A5AF13DF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4797-571A-4773-A6A1-0E5A5F7347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AB78-37F7-49C8-84CA-644A6C21FA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736C-5BE9-4711-8FEA-5C1B196E70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5E9E-AF2D-47D2-AB41-0F3F83A288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87D0-0BF0-406A-B2A2-AFD434B355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3557-BCC0-4A4E-8655-A4D1880152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E848-2500-440D-B679-82FF33C384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3454-68F6-433A-9C4F-E37A19134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7BA6-34ED-419E-9E4E-13125EB621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69ED-08DB-42DA-B71F-2B8EC72B2E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C2A0-F102-402C-A255-8890992450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721A-DE06-456F-A6E5-E119CD621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13EB-7C21-4D83-A220-37D676726F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8D26-8C3C-4627-BB70-C42275D6D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8811-B589-4C8B-B5A0-292C6DA6AE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4E5B-A9B3-4DB4-BD44-A17F320468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0F42-777B-43BF-AAF5-E0C68BE2A9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D0AB-45A1-4E55-80E2-79AE61BD3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8BA4-2F10-4F6B-960C-D18345E0BA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0A06-8000-42E4-8606-976551208A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0CC0-36ED-4DA0-B2B8-8B371FA0F3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01DF-AA2E-4293-9C9E-AABFABCB09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214B-3921-464F-B43A-214B69C984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C0CE-F333-4207-A2DA-8DC98BF2B7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D4E7-D592-4858-8C80-C5DD3C35C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27C2-D021-40D4-BD4D-2035341C96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0B4A-2E38-4FF2-BBC3-A7A67A0922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C77D-EEA1-4544-AD66-3B17E8CD79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3242-2E58-47FD-9461-6437CF0B48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0AE9-FC88-44EB-9D7A-372325E2E7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AB35-48BA-4CE9-8B64-BCBE6CA554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E8CD-AEE0-4064-A6D6-604B1AC3AC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B1F4-973D-41BF-BA6D-5A386A139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484E-16DE-4AC9-BA66-8E8F4CCA1D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82B5-9F5B-40E0-AA87-3BC22E7D00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491E-9A8C-409E-AEE2-DC78C71558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7997-69DB-4521-90E1-CB62A4587E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FDD0-7D3B-4650-974C-5E1F121828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A109-FB9D-42C1-8171-C510A26EA8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91A3-257A-4A53-934C-E2DFB509A3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4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6743880" cy="68580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5" descr=""/>
          <p:cNvPicPr/>
          <p:nvPr/>
        </p:nvPicPr>
        <p:blipFill>
          <a:blip r:embed="rId3"/>
          <a:stretch/>
        </p:blipFill>
        <p:spPr>
          <a:xfrm>
            <a:off x="3132000" y="3716280"/>
            <a:ext cx="27338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6737" descr=""/>
          <p:cNvPicPr/>
          <p:nvPr/>
        </p:nvPicPr>
        <p:blipFill>
          <a:blip r:embed="rId1"/>
          <a:stretch/>
        </p:blipFill>
        <p:spPr>
          <a:xfrm>
            <a:off x="571680" y="1247760"/>
            <a:ext cx="8001000" cy="436248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16738"/>
          <p:cNvSpPr/>
          <p:nvPr/>
        </p:nvSpPr>
        <p:spPr>
          <a:xfrm>
            <a:off x="7812000" y="1773360"/>
            <a:ext cx="4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571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7982280" cy="1495440"/>
          </a:xfrm>
          <a:prstGeom prst="rect">
            <a:avLst/>
          </a:prstGeom>
          <a:ln w="0">
            <a:noFill/>
          </a:ln>
        </p:spPr>
      </p:pic>
      <p:pic>
        <p:nvPicPr>
          <p:cNvPr id="1455" name="图片 115714" descr=""/>
          <p:cNvPicPr/>
          <p:nvPr/>
        </p:nvPicPr>
        <p:blipFill>
          <a:blip r:embed="rId2"/>
          <a:stretch/>
        </p:blipFill>
        <p:spPr>
          <a:xfrm>
            <a:off x="1028880" y="2381400"/>
            <a:ext cx="7372080" cy="382896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5715"/>
          <p:cNvSpPr/>
          <p:nvPr/>
        </p:nvSpPr>
        <p:spPr>
          <a:xfrm>
            <a:off x="4322880" y="3460680"/>
            <a:ext cx="16174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5716"/>
          <p:cNvSpPr/>
          <p:nvPr/>
        </p:nvSpPr>
        <p:spPr>
          <a:xfrm>
            <a:off x="6237360" y="4022640"/>
            <a:ext cx="16174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15717"/>
          <p:cNvSpPr/>
          <p:nvPr/>
        </p:nvSpPr>
        <p:spPr>
          <a:xfrm>
            <a:off x="4465800" y="4575240"/>
            <a:ext cx="17618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5718"/>
          <p:cNvSpPr/>
          <p:nvPr/>
        </p:nvSpPr>
        <p:spPr>
          <a:xfrm>
            <a:off x="4903920" y="5156280"/>
            <a:ext cx="1539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5719"/>
          <p:cNvSpPr/>
          <p:nvPr/>
        </p:nvSpPr>
        <p:spPr>
          <a:xfrm>
            <a:off x="4665600" y="5718240"/>
            <a:ext cx="15400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4689" descr=""/>
          <p:cNvPicPr/>
          <p:nvPr/>
        </p:nvPicPr>
        <p:blipFill>
          <a:blip r:embed="rId1"/>
          <a:stretch/>
        </p:blipFill>
        <p:spPr>
          <a:xfrm>
            <a:off x="519120" y="714240"/>
            <a:ext cx="7953480" cy="5505480"/>
          </a:xfrm>
          <a:prstGeom prst="rect">
            <a:avLst/>
          </a:prstGeom>
          <a:ln w="0">
            <a:noFill/>
          </a:ln>
        </p:spPr>
      </p:pic>
      <p:pic>
        <p:nvPicPr>
          <p:cNvPr id="1462" name="图片 114690" descr=""/>
          <p:cNvPicPr/>
          <p:nvPr/>
        </p:nvPicPr>
        <p:blipFill>
          <a:blip r:embed="rId2"/>
          <a:stretch/>
        </p:blipFill>
        <p:spPr>
          <a:xfrm>
            <a:off x="1138320" y="6300720"/>
            <a:ext cx="866520" cy="40968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4691"/>
          <p:cNvSpPr/>
          <p:nvPr/>
        </p:nvSpPr>
        <p:spPr>
          <a:xfrm>
            <a:off x="3294000" y="5156280"/>
            <a:ext cx="4320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4692"/>
          <p:cNvSpPr/>
          <p:nvPr/>
        </p:nvSpPr>
        <p:spPr>
          <a:xfrm>
            <a:off x="6342120" y="5165640"/>
            <a:ext cx="4316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4693"/>
          <p:cNvSpPr/>
          <p:nvPr/>
        </p:nvSpPr>
        <p:spPr>
          <a:xfrm>
            <a:off x="1969920" y="5727600"/>
            <a:ext cx="4320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4694"/>
          <p:cNvSpPr/>
          <p:nvPr/>
        </p:nvSpPr>
        <p:spPr>
          <a:xfrm>
            <a:off x="5018040" y="5727600"/>
            <a:ext cx="4320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4695"/>
          <p:cNvSpPr/>
          <p:nvPr/>
        </p:nvSpPr>
        <p:spPr>
          <a:xfrm>
            <a:off x="7370640" y="5718240"/>
            <a:ext cx="4320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3665" descr=""/>
          <p:cNvPicPr/>
          <p:nvPr/>
        </p:nvPicPr>
        <p:blipFill>
          <a:blip r:embed="rId1"/>
          <a:stretch/>
        </p:blipFill>
        <p:spPr>
          <a:xfrm>
            <a:off x="635040" y="693720"/>
            <a:ext cx="7867440" cy="598500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3666"/>
          <p:cNvSpPr/>
          <p:nvPr/>
        </p:nvSpPr>
        <p:spPr>
          <a:xfrm>
            <a:off x="7313760" y="3956040"/>
            <a:ext cx="1145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3667"/>
          <p:cNvSpPr/>
          <p:nvPr/>
        </p:nvSpPr>
        <p:spPr>
          <a:xfrm>
            <a:off x="1465200" y="4518000"/>
            <a:ext cx="8031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3668"/>
          <p:cNvSpPr/>
          <p:nvPr/>
        </p:nvSpPr>
        <p:spPr>
          <a:xfrm>
            <a:off x="6141960" y="5622840"/>
            <a:ext cx="23176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3669"/>
          <p:cNvSpPr/>
          <p:nvPr/>
        </p:nvSpPr>
        <p:spPr>
          <a:xfrm>
            <a:off x="731880" y="6184800"/>
            <a:ext cx="23176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2641" descr=""/>
          <p:cNvPicPr/>
          <p:nvPr/>
        </p:nvPicPr>
        <p:blipFill>
          <a:blip r:embed="rId1"/>
          <a:stretch/>
        </p:blipFill>
        <p:spPr>
          <a:xfrm>
            <a:off x="314280" y="717480"/>
            <a:ext cx="2876760" cy="37152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112642" descr=""/>
          <p:cNvPicPr/>
          <p:nvPr/>
        </p:nvPicPr>
        <p:blipFill>
          <a:blip r:embed="rId2"/>
          <a:stretch/>
        </p:blipFill>
        <p:spPr>
          <a:xfrm>
            <a:off x="947880" y="1141560"/>
            <a:ext cx="6914880" cy="2465280"/>
          </a:xfrm>
          <a:prstGeom prst="rect">
            <a:avLst/>
          </a:prstGeom>
          <a:ln w="0">
            <a:noFill/>
          </a:ln>
        </p:spPr>
      </p:pic>
      <p:pic>
        <p:nvPicPr>
          <p:cNvPr id="1475" name="图片 112643" descr=""/>
          <p:cNvPicPr/>
          <p:nvPr/>
        </p:nvPicPr>
        <p:blipFill>
          <a:blip r:embed="rId3"/>
          <a:stretch/>
        </p:blipFill>
        <p:spPr>
          <a:xfrm>
            <a:off x="942840" y="3666960"/>
            <a:ext cx="6915240" cy="381240"/>
          </a:xfrm>
          <a:prstGeom prst="rect">
            <a:avLst/>
          </a:prstGeom>
          <a:ln w="0">
            <a:noFill/>
          </a:ln>
        </p:spPr>
      </p:pic>
      <p:pic>
        <p:nvPicPr>
          <p:cNvPr id="1476" name="图片 112644" descr=""/>
          <p:cNvPicPr/>
          <p:nvPr/>
        </p:nvPicPr>
        <p:blipFill>
          <a:blip r:embed="rId4"/>
          <a:stretch/>
        </p:blipFill>
        <p:spPr>
          <a:xfrm>
            <a:off x="932040" y="4102200"/>
            <a:ext cx="7172280" cy="264168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12645"/>
          <p:cNvSpPr/>
          <p:nvPr/>
        </p:nvSpPr>
        <p:spPr>
          <a:xfrm>
            <a:off x="4189320" y="4041720"/>
            <a:ext cx="405468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2646"/>
          <p:cNvSpPr/>
          <p:nvPr/>
        </p:nvSpPr>
        <p:spPr>
          <a:xfrm>
            <a:off x="1312920" y="4613400"/>
            <a:ext cx="693108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2647"/>
          <p:cNvSpPr/>
          <p:nvPr/>
        </p:nvSpPr>
        <p:spPr>
          <a:xfrm>
            <a:off x="1112760" y="5156280"/>
            <a:ext cx="693108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2648"/>
          <p:cNvSpPr/>
          <p:nvPr/>
        </p:nvSpPr>
        <p:spPr>
          <a:xfrm>
            <a:off x="4140360" y="5715000"/>
            <a:ext cx="39607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2649"/>
          <p:cNvSpPr/>
          <p:nvPr/>
        </p:nvSpPr>
        <p:spPr>
          <a:xfrm>
            <a:off x="1292400" y="6248520"/>
            <a:ext cx="39607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161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7696080" cy="371520"/>
          </a:xfrm>
          <a:prstGeom prst="rect">
            <a:avLst/>
          </a:prstGeom>
          <a:ln w="0">
            <a:noFill/>
          </a:ln>
        </p:spPr>
      </p:pic>
      <p:pic>
        <p:nvPicPr>
          <p:cNvPr id="1483" name="图片 111618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410600" cy="412416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1619"/>
          <p:cNvSpPr/>
          <p:nvPr/>
        </p:nvSpPr>
        <p:spPr>
          <a:xfrm>
            <a:off x="6703920" y="4613400"/>
            <a:ext cx="16131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1620"/>
          <p:cNvSpPr/>
          <p:nvPr/>
        </p:nvSpPr>
        <p:spPr>
          <a:xfrm>
            <a:off x="1189080" y="5165640"/>
            <a:ext cx="16128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10593" descr=""/>
          <p:cNvPicPr/>
          <p:nvPr/>
        </p:nvPicPr>
        <p:blipFill>
          <a:blip r:embed="rId1"/>
          <a:stretch/>
        </p:blipFill>
        <p:spPr>
          <a:xfrm>
            <a:off x="752400" y="1204920"/>
            <a:ext cx="7429680" cy="442908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10594"/>
          <p:cNvSpPr/>
          <p:nvPr/>
        </p:nvSpPr>
        <p:spPr>
          <a:xfrm>
            <a:off x="5713560" y="1174680"/>
            <a:ext cx="13064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0595"/>
          <p:cNvSpPr/>
          <p:nvPr/>
        </p:nvSpPr>
        <p:spPr>
          <a:xfrm>
            <a:off x="4227480" y="2289240"/>
            <a:ext cx="560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0596"/>
          <p:cNvSpPr/>
          <p:nvPr/>
        </p:nvSpPr>
        <p:spPr>
          <a:xfrm>
            <a:off x="2351160" y="4003560"/>
            <a:ext cx="58212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0597"/>
          <p:cNvSpPr/>
          <p:nvPr/>
        </p:nvSpPr>
        <p:spPr>
          <a:xfrm>
            <a:off x="1274760" y="4575240"/>
            <a:ext cx="58212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0598"/>
          <p:cNvSpPr/>
          <p:nvPr/>
        </p:nvSpPr>
        <p:spPr>
          <a:xfrm>
            <a:off x="2370240" y="5137200"/>
            <a:ext cx="54417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09569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686360" cy="595188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09570"/>
          <p:cNvSpPr/>
          <p:nvPr/>
        </p:nvSpPr>
        <p:spPr>
          <a:xfrm>
            <a:off x="1476360" y="4869000"/>
            <a:ext cx="23036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09571"/>
          <p:cNvSpPr/>
          <p:nvPr/>
        </p:nvSpPr>
        <p:spPr>
          <a:xfrm>
            <a:off x="1362240" y="5427720"/>
            <a:ext cx="23032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09574"/>
          <p:cNvSpPr/>
          <p:nvPr/>
        </p:nvSpPr>
        <p:spPr>
          <a:xfrm>
            <a:off x="4487760" y="4295880"/>
            <a:ext cx="1308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09575"/>
          <p:cNvSpPr/>
          <p:nvPr/>
        </p:nvSpPr>
        <p:spPr>
          <a:xfrm>
            <a:off x="6761160" y="4308480"/>
            <a:ext cx="1308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09576"/>
          <p:cNvSpPr/>
          <p:nvPr/>
        </p:nvSpPr>
        <p:spPr>
          <a:xfrm>
            <a:off x="4538520" y="4917960"/>
            <a:ext cx="130824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09577"/>
          <p:cNvSpPr/>
          <p:nvPr/>
        </p:nvSpPr>
        <p:spPr>
          <a:xfrm>
            <a:off x="4424400" y="5477040"/>
            <a:ext cx="15876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9578"/>
          <p:cNvSpPr/>
          <p:nvPr/>
        </p:nvSpPr>
        <p:spPr>
          <a:xfrm>
            <a:off x="6761160" y="5121360"/>
            <a:ext cx="1308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9579"/>
          <p:cNvSpPr/>
          <p:nvPr/>
        </p:nvSpPr>
        <p:spPr>
          <a:xfrm>
            <a:off x="4643280" y="6165720"/>
            <a:ext cx="130824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9580"/>
          <p:cNvSpPr/>
          <p:nvPr/>
        </p:nvSpPr>
        <p:spPr>
          <a:xfrm>
            <a:off x="6611760" y="6153120"/>
            <a:ext cx="1308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108545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48880" cy="5067360"/>
          </a:xfrm>
          <a:prstGeom prst="rect">
            <a:avLst/>
          </a:prstGeom>
          <a:ln w="0">
            <a:noFill/>
          </a:ln>
        </p:spPr>
      </p:pic>
      <p:sp>
        <p:nvSpPr>
          <p:cNvPr id="1503" name="矩形 108546"/>
          <p:cNvSpPr/>
          <p:nvPr/>
        </p:nvSpPr>
        <p:spPr>
          <a:xfrm>
            <a:off x="5135400" y="4905360"/>
            <a:ext cx="32529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08547"/>
          <p:cNvSpPr/>
          <p:nvPr/>
        </p:nvSpPr>
        <p:spPr>
          <a:xfrm>
            <a:off x="1490760" y="5464080"/>
            <a:ext cx="1568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12595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39040" cy="3819600"/>
          </a:xfrm>
          <a:prstGeom prst="rect">
            <a:avLst/>
          </a:prstGeom>
          <a:ln w="0">
            <a:noFill/>
          </a:ln>
        </p:spPr>
      </p:pic>
      <p:sp>
        <p:nvSpPr>
          <p:cNvPr id="1506" name="矩形 125954"/>
          <p:cNvSpPr/>
          <p:nvPr/>
        </p:nvSpPr>
        <p:spPr>
          <a:xfrm>
            <a:off x="4576680" y="1438200"/>
            <a:ext cx="37404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25955"/>
          <p:cNvSpPr/>
          <p:nvPr/>
        </p:nvSpPr>
        <p:spPr>
          <a:xfrm>
            <a:off x="1274760" y="1996920"/>
            <a:ext cx="416088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25956"/>
          <p:cNvSpPr/>
          <p:nvPr/>
        </p:nvSpPr>
        <p:spPr>
          <a:xfrm>
            <a:off x="2608200" y="3127320"/>
            <a:ext cx="56358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25957"/>
          <p:cNvSpPr/>
          <p:nvPr/>
        </p:nvSpPr>
        <p:spPr>
          <a:xfrm>
            <a:off x="1084320" y="3711600"/>
            <a:ext cx="38480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25958"/>
          <p:cNvSpPr/>
          <p:nvPr/>
        </p:nvSpPr>
        <p:spPr>
          <a:xfrm>
            <a:off x="6469200" y="4257720"/>
            <a:ext cx="83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48880" cy="269568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2"/>
          <p:cNvSpPr/>
          <p:nvPr/>
        </p:nvSpPr>
        <p:spPr>
          <a:xfrm>
            <a:off x="7885080" y="3213000"/>
            <a:ext cx="4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3905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39160" cy="546732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3906"/>
          <p:cNvSpPr/>
          <p:nvPr/>
        </p:nvSpPr>
        <p:spPr>
          <a:xfrm>
            <a:off x="7799400" y="1336680"/>
            <a:ext cx="43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2881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39160" cy="494352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2882"/>
          <p:cNvSpPr/>
          <p:nvPr/>
        </p:nvSpPr>
        <p:spPr>
          <a:xfrm>
            <a:off x="7770960" y="2546280"/>
            <a:ext cx="43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121857" descr=""/>
          <p:cNvPicPr/>
          <p:nvPr/>
        </p:nvPicPr>
        <p:blipFill>
          <a:blip r:embed="rId1"/>
          <a:stretch/>
        </p:blipFill>
        <p:spPr>
          <a:xfrm>
            <a:off x="552600" y="2052720"/>
            <a:ext cx="8038800" cy="275256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1858"/>
          <p:cNvSpPr/>
          <p:nvPr/>
        </p:nvSpPr>
        <p:spPr>
          <a:xfrm>
            <a:off x="7812000" y="3213000"/>
            <a:ext cx="4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0833" descr=""/>
          <p:cNvPicPr/>
          <p:nvPr/>
        </p:nvPicPr>
        <p:blipFill>
          <a:blip r:embed="rId1"/>
          <a:stretch/>
        </p:blipFill>
        <p:spPr>
          <a:xfrm>
            <a:off x="581040" y="1038240"/>
            <a:ext cx="7981920" cy="478152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0834"/>
          <p:cNvSpPr/>
          <p:nvPr/>
        </p:nvSpPr>
        <p:spPr>
          <a:xfrm>
            <a:off x="7812000" y="2133720"/>
            <a:ext cx="4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19809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10720" cy="544824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19810"/>
          <p:cNvSpPr/>
          <p:nvPr/>
        </p:nvSpPr>
        <p:spPr>
          <a:xfrm>
            <a:off x="7812000" y="1341360"/>
            <a:ext cx="4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18785" descr=""/>
          <p:cNvPicPr/>
          <p:nvPr/>
        </p:nvPicPr>
        <p:blipFill>
          <a:blip r:embed="rId1"/>
          <a:stretch/>
        </p:blipFill>
        <p:spPr>
          <a:xfrm>
            <a:off x="587520" y="757080"/>
            <a:ext cx="7953120" cy="5967720"/>
          </a:xfrm>
          <a:prstGeom prst="rect">
            <a:avLst/>
          </a:prstGeom>
          <a:ln w="0">
            <a:noFill/>
          </a:ln>
        </p:spPr>
      </p:pic>
      <p:sp>
        <p:nvSpPr>
          <p:cNvPr id="1448" name="矩形 118786"/>
          <p:cNvSpPr/>
          <p:nvPr/>
        </p:nvSpPr>
        <p:spPr>
          <a:xfrm>
            <a:off x="7812000" y="765000"/>
            <a:ext cx="4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18787"/>
          <p:cNvSpPr/>
          <p:nvPr/>
        </p:nvSpPr>
        <p:spPr>
          <a:xfrm>
            <a:off x="7812000" y="4022640"/>
            <a:ext cx="4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7761" descr=""/>
          <p:cNvPicPr/>
          <p:nvPr/>
        </p:nvPicPr>
        <p:blipFill>
          <a:blip r:embed="rId1"/>
          <a:stretch/>
        </p:blipFill>
        <p:spPr>
          <a:xfrm>
            <a:off x="566640" y="1795320"/>
            <a:ext cx="8010720" cy="326736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7762"/>
          <p:cNvSpPr/>
          <p:nvPr/>
        </p:nvSpPr>
        <p:spPr>
          <a:xfrm>
            <a:off x="7885080" y="2349360"/>
            <a:ext cx="4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8:00:38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